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D28-4DE5-4408-B8FE-6B98BF91D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CD8F-3267-46CE-9B2A-3D6A039ED5B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D124-F2FF-4444-8707-FEDE1A104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BA38-ACB5-447D-A4B8-49AFC380D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2BF-C9EE-4172-AAB4-733169CD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B11-FD27-4273-97C0-B880A3E0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9BD-7CC4-4B97-8EC1-D7D7537C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80D-2C8B-4E9C-829D-17D4BBD7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9CE-A740-4A04-9DAF-C1676444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0301-AAE5-4CDD-9854-617C22FE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9D74-12DC-45C9-848E-34BA0FC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899-B1C0-491C-886A-EC611BF4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0B52-B1D1-4BC3-9F73-18D1CEC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EFB-D57E-41B8-AE36-475DDA78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E9F4-1D85-4A26-8978-4D7F9AB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5D0-71E8-4FFA-8806-BE7258FF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DB7-22BE-405D-A40C-5421CFD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E06-0DEA-4C04-AF79-15F2185A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76E3-51CC-440C-83DB-BBE36414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BC0-9815-4C3B-8095-44F5E83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18B2-F70F-445D-A7FB-CA0D100D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88E-0548-439C-8483-110C3757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DAC-D74D-4D9F-B2B5-6FD1C66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11E-B5FC-4009-8EB7-15974E56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085-FE67-4F0C-96F2-39F5BBD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0C6-8DA2-47FA-B66F-2962B25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BA3-15D2-4072-8FBC-A52EDCBC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59B-9499-48C6-9CCA-9DB448F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F890347-AFB2-4A1E-B7FE-6342703E23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A9E34AA-C8EE-4E07-9BFD-4A6939C1DAD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768245A-4DA1-4B28-8D77-88D91FD94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DE6E03E-D1AC-4869-90D5-84878E53A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9513090-8A35-47A2-95D5-7218543587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69FA65D-BBE5-41CE-A0FD-C631516ADE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522C0E3-CC19-46A9-94E2-A6589A4F05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5B759C4-3F49-4EF4-8388-A0C1E5A82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0232073-646A-45A2-AAE3-AA37C77A6E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588F691-90DE-4232-A1C8-C18A347508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FCA4B56-79CA-411F-8B6D-7E9B6198A7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79A1E93-C29B-4245-A21D-69209AC419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0C23DB0-30EC-4A91-A8F3-E1AC548EF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D0CAC50-29C9-4292-AD42-41E9BD5932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8B902630-3FC3-46AD-8C3A-3EF0D41074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A799F13-5A21-4F08-A8D8-4F198AA6F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194AB45-4A58-4A0F-8EBA-DEC79AA6F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97C168A-174F-43C5-AB1B-86CFD98A68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8EAF59B-3E6B-4F6B-9E83-7A70C85F6E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73F6F29-377C-4A49-8317-64048621DB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E057976-B502-4704-A8BF-A821F53ABC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eberényi</cp:lastModifiedBy>
  <cp:lastPrinted>2015-10-20T07:07:41Z</cp:lastPrinted>
  <dcterms:modified xsi:type="dcterms:W3CDTF">2020-04-23T12:31:44Z</dcterms:modified>
  <cp:revision>289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