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1680" y="74088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A7D6-CD1E-489A-B789-6471F76B29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75A7-07D5-4972-A9EB-9ECD5CADA03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Dia számának hely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137B-ECEC-4FAC-BB7D-13C1B1548D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Dia számának hely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5B37-6F27-4261-810E-6D1F7B001A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325B-4652-416C-9D86-70BD6823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6424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E442-342A-4451-874C-DC56258B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E7E-A990-4A0D-8A7D-D38A2327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0973-11A6-4997-885F-BFE442F4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3B91-62AE-41EC-87D6-1CD9B813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2A43-F16D-4414-B107-35CBD202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6062-2DDF-44E2-8641-24B6347E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872C-55F1-495E-8FBD-C3900701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9D98-B9DA-48DC-B60D-7CC96FAE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A060-2A9F-4D73-96DB-C3D9F952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E408-E679-47C1-9E24-E7440243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B763-5683-4DE8-AF56-7158A59E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D5C4-3876-433F-A1B5-0082234E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FEF1-B387-4D69-BE8E-0DF1B701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6424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5B6B-8635-4F33-8772-25796656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1B59-9A6C-4588-A518-3F32147F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A707-BF71-46BD-B70E-5D219D8C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C45C-43AB-4367-8BF6-0C320EB1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59B6-3C4B-42D0-B120-DBFEF5D6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6EF-1B84-49FA-AE0E-EAF53DCE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19A9-9795-40EC-8DE6-E51B3AEF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9E7-905C-4458-8C29-F3F7F1E8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6A85-3CD7-4201-B3F7-4C0D8F12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8A8-3F2D-44CB-965C-F5D02805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2"/>
          <p:cNvSpPr/>
          <p:nvPr/>
        </p:nvSpPr>
        <p:spPr>
          <a:xfrm>
            <a:off x="615960" y="1130400"/>
            <a:ext cx="7918560" cy="164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1956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2940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3792807A-8045-4CD2-9ACE-A60E7828B0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5"/>
          <p:cNvGrpSpPr/>
          <p:nvPr/>
        </p:nvGrpSpPr>
        <p:grpSpPr>
          <a:xfrm>
            <a:off x="514440" y="2496960"/>
            <a:ext cx="8153280" cy="1600200"/>
            <a:chOff x="514440" y="2496960"/>
            <a:chExt cx="8153280" cy="1600200"/>
          </a:xfrm>
        </p:grpSpPr>
        <p:sp>
          <p:nvSpPr>
            <p:cNvPr id="43" name="Arc 16"/>
            <p:cNvSpPr/>
            <p:nvPr/>
          </p:nvSpPr>
          <p:spPr>
            <a:xfrm>
              <a:off x="5764320" y="24969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Arc 17"/>
            <p:cNvSpPr/>
            <p:nvPr/>
          </p:nvSpPr>
          <p:spPr>
            <a:xfrm>
              <a:off x="5689800" y="26622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Arc 18"/>
            <p:cNvSpPr/>
            <p:nvPr/>
          </p:nvSpPr>
          <p:spPr>
            <a:xfrm>
              <a:off x="5646960" y="28828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19"/>
            <p:cNvSpPr/>
            <p:nvPr/>
          </p:nvSpPr>
          <p:spPr>
            <a:xfrm>
              <a:off x="514440" y="32130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19560" y="6350040"/>
            <a:ext cx="1949400" cy="31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58760" y="6324120"/>
            <a:ext cx="516240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29400" y="6324480"/>
            <a:ext cx="571320" cy="3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5E08BE07-0159-4861-AA87-5951BF8A6275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git.ik.bme.hu/Parlab/burglar.git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4"/>
          <p:cNvSpPr/>
          <p:nvPr/>
        </p:nvSpPr>
        <p:spPr>
          <a:xfrm>
            <a:off x="8429760" y="632448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CD087BA0-50D6-46FE-A345-DAF4C743D3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21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Parallel programming</a:t>
            </a:r>
            <a:br>
              <a:rPr sz="4400"/>
            </a:b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laboratory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8429760" y="632448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CEE1B59F-21AA-485A-B9C8-7B132D6BAE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BME1"/>
          <p:cNvPicPr/>
          <p:nvPr/>
        </p:nvPicPr>
        <p:blipFill>
          <a:blip r:embed="rId1"/>
          <a:stretch/>
        </p:blipFill>
        <p:spPr>
          <a:xfrm>
            <a:off x="6172200" y="5334120"/>
            <a:ext cx="2362320" cy="658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re Szebe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y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ME I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szebi@iit.bme.hu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6029280" y="5915160"/>
            <a:ext cx="2703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M Ű E G Y E T E M  1 7 8 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Élőláb helye 11"/>
          <p:cNvSpPr/>
          <p:nvPr/>
        </p:nvSpPr>
        <p:spPr>
          <a:xfrm>
            <a:off x="158760" y="6324480"/>
            <a:ext cx="5162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átum helye 10"/>
          <p:cNvSpPr/>
          <p:nvPr/>
        </p:nvSpPr>
        <p:spPr>
          <a:xfrm>
            <a:off x="6019920" y="635004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Multiuser environment #2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abyrinth servers are running on the local machines and listen at port number 1562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lients are running on para clu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tunnel should be used between the para and the local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unnels must end at unique port number on par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gested unique port number is 15000+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ere UID is the user id on para clu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33"/>
                </a:solidFill>
                <a:latin typeface="Times New Roman"/>
              </a:rPr>
              <a:t>id -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ommand prints the U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41EDFB79-A004-4C3B-8E3F-487217ABFD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olyamatábra: Közvetlen elérésű tárolás 1"/>
          <p:cNvSpPr/>
          <p:nvPr/>
        </p:nvSpPr>
        <p:spPr>
          <a:xfrm>
            <a:off x="2921040" y="3541680"/>
            <a:ext cx="3460680" cy="673200"/>
          </a:xfrm>
          <a:prstGeom prst="flowChartMagneticDrum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u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églalap 8"/>
          <p:cNvSpPr/>
          <p:nvPr/>
        </p:nvSpPr>
        <p:spPr>
          <a:xfrm>
            <a:off x="1557360" y="3511440"/>
            <a:ext cx="1154160" cy="70344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Labyrinth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Ellipszis 9"/>
          <p:cNvSpPr/>
          <p:nvPr/>
        </p:nvSpPr>
        <p:spPr>
          <a:xfrm>
            <a:off x="6591240" y="3162240"/>
            <a:ext cx="936720" cy="406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rg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Ellipszis 10"/>
          <p:cNvSpPr/>
          <p:nvPr/>
        </p:nvSpPr>
        <p:spPr>
          <a:xfrm>
            <a:off x="6591240" y="3635280"/>
            <a:ext cx="936720" cy="40644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p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Ellipszis 11"/>
          <p:cNvSpPr/>
          <p:nvPr/>
        </p:nvSpPr>
        <p:spPr>
          <a:xfrm>
            <a:off x="6591240" y="4119480"/>
            <a:ext cx="936720" cy="40644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p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Balra-jobbra nyíl 5"/>
          <p:cNvSpPr/>
          <p:nvPr/>
        </p:nvSpPr>
        <p:spPr>
          <a:xfrm>
            <a:off x="2571840" y="3852720"/>
            <a:ext cx="460440" cy="103320"/>
          </a:xfrm>
          <a:prstGeom prst="leftRight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Balra-jobbra nyíl 15"/>
          <p:cNvSpPr/>
          <p:nvPr/>
        </p:nvSpPr>
        <p:spPr>
          <a:xfrm rot="19431000">
            <a:off x="6221520" y="3522240"/>
            <a:ext cx="460440" cy="101520"/>
          </a:xfrm>
          <a:prstGeom prst="leftRightArrow">
            <a:avLst>
              <a:gd name="adj1" fmla="val 50000"/>
              <a:gd name="adj2" fmla="val 50037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Balra-jobbra nyíl 16"/>
          <p:cNvSpPr/>
          <p:nvPr/>
        </p:nvSpPr>
        <p:spPr>
          <a:xfrm>
            <a:off x="6261120" y="3805200"/>
            <a:ext cx="461880" cy="101520"/>
          </a:xfrm>
          <a:prstGeom prst="leftRightArrow">
            <a:avLst>
              <a:gd name="adj1" fmla="val 50000"/>
              <a:gd name="adj2" fmla="val 50025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Balra-jobbra nyíl 17"/>
          <p:cNvSpPr/>
          <p:nvPr/>
        </p:nvSpPr>
        <p:spPr>
          <a:xfrm rot="1802400">
            <a:off x="6195600" y="4143240"/>
            <a:ext cx="460440" cy="101880"/>
          </a:xfrm>
          <a:prstGeom prst="leftRightArrow">
            <a:avLst>
              <a:gd name="adj1" fmla="val 50000"/>
              <a:gd name="adj2" fmla="val 49860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Putty configuration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2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1C7AB349-2A1E-44FF-9E13-5B5F938C1E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3900600" y="1338120"/>
            <a:ext cx="4871880" cy="5091120"/>
          </a:xfrm>
          <a:prstGeom prst="rect">
            <a:avLst/>
          </a:prstGeom>
          <a:ln w="0">
            <a:noFill/>
          </a:ln>
        </p:spPr>
      </p:pic>
      <p:sp>
        <p:nvSpPr>
          <p:cNvPr id="306" name="Ellipszis 7"/>
          <p:cNvSpPr/>
          <p:nvPr/>
        </p:nvSpPr>
        <p:spPr>
          <a:xfrm>
            <a:off x="7715160" y="3743280"/>
            <a:ext cx="900360" cy="6001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Ellipszis 10"/>
          <p:cNvSpPr/>
          <p:nvPr/>
        </p:nvSpPr>
        <p:spPr>
          <a:xfrm>
            <a:off x="4284720" y="5533920"/>
            <a:ext cx="801720" cy="3841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églalap 11"/>
          <p:cNvSpPr/>
          <p:nvPr/>
        </p:nvSpPr>
        <p:spPr>
          <a:xfrm>
            <a:off x="514440" y="1582560"/>
            <a:ext cx="4046400" cy="3020040"/>
          </a:xfrm>
          <a:prstGeom prst="rect">
            <a:avLst/>
          </a:prstGeom>
          <a:solidFill>
            <a:srgbClr val="ff99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ession-&gt;SSH-&gt;Tu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Local ports accept connection from other 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ource port: unique PORT n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Destination: localhost:156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Ip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Egyenes összekötő nyíllal 13"/>
          <p:cNvCxnSpPr/>
          <p:nvPr/>
        </p:nvCxnSpPr>
        <p:spPr>
          <a:xfrm>
            <a:off x="3311640" y="2180880"/>
            <a:ext cx="2365920" cy="32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0" name="Egyenes összekötő nyíllal 14"/>
          <p:cNvCxnSpPr/>
          <p:nvPr/>
        </p:nvCxnSpPr>
        <p:spPr>
          <a:xfrm>
            <a:off x="1955520" y="4176720"/>
            <a:ext cx="4693320" cy="504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1" name="Egyenes összekötő nyíllal 18"/>
          <p:cNvCxnSpPr/>
          <p:nvPr/>
        </p:nvCxnSpPr>
        <p:spPr>
          <a:xfrm>
            <a:off x="4140360" y="3325320"/>
            <a:ext cx="2428920" cy="63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2" name="Egyenes összekötő nyíllal 21"/>
          <p:cNvCxnSpPr/>
          <p:nvPr/>
        </p:nvCxnSpPr>
        <p:spPr>
          <a:xfrm>
            <a:off x="4328640" y="3771720"/>
            <a:ext cx="2296080" cy="581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Possible configurations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on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r local machine runs the labyrinth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 cluster runs the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on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rtual machine running on cloud runs the labyrinth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 cluster runs the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on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rtual machine running on cloud runs the labyrinth server and clients. (no tunnel need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1F8F337C-14B5-4042-9A06-D8CBA00394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Using option 1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9" name="Dátum helye 2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Élőláb helye 3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Dia számának helye 4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675228CD-EC02-48BA-A4B4-5A597CD1E9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3643200" y="1352520"/>
            <a:ext cx="4757760" cy="4768920"/>
          </a:xfrm>
          <a:prstGeom prst="rect">
            <a:avLst/>
          </a:prstGeom>
          <a:ln w="0">
            <a:noFill/>
          </a:ln>
        </p:spPr>
      </p:pic>
      <p:sp>
        <p:nvSpPr>
          <p:cNvPr id="323" name="Téglalap 6"/>
          <p:cNvSpPr/>
          <p:nvPr/>
        </p:nvSpPr>
        <p:spPr>
          <a:xfrm>
            <a:off x="311040" y="1104840"/>
            <a:ext cx="4857840" cy="4911120"/>
          </a:xfrm>
          <a:prstGeom prst="rect">
            <a:avLst/>
          </a:prstGeom>
          <a:solidFill>
            <a:srgbClr val="ff99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packing the sour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erver dir: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loc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ient: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para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tting up the 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ee putty config </a:t>
            </a: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ssh PORT:localhost:15623 U@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aring th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d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erver.bat  </a:t>
            </a: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or ./server.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n para clus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d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./test.s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./testmpi.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Using option 2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ogin to the smalville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rt a VM from template: parab and logi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git clone </a:t>
            </a:r>
            <a:r>
              <a:rPr b="0" lang="hu-HU" sz="20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git.ik.bme.hu/Parlab/burglar.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d burglar/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/server.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pen a new terminal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sh USER@FULL_HOSTNAME_OF_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git clone https://git.ik.bme.hu/Parlab/burglar.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d cli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/test.sh  </a:t>
            </a:r>
            <a:r>
              <a:rPr b="0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9900"/>
                </a:solidFill>
                <a:latin typeface="Times New Roman"/>
              </a:rPr>
              <a:t>record your unique port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sh PORT:localhost:1623U@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d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/test.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1D657B71-70B7-47D5-A9F1-5D32F00708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Assignmen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eate an MPI program, models the behaviour of cop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mple solu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cop saw the burglar, broadcasts a message with the exact coordin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ps try to move to that 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lem: walls could block the mo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xample cop forgets to tell the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05E3122B-AEEC-4119-8A98-76C325E8DA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Assignment cont. #1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phisticated solution #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ile the cops are moving, they build a map from the streets (labyrin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cop saw the burglar, broadcasts a message with the exact coordin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ps use the map to calculate the way to last place of the burgl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7B982251-1FC2-4FB2-B894-BA2A2F17CB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Assignment cont. #2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phisticated solution #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ile the cops are moving, they send information to the cen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entre bulid up the city m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entre sends movement commands to the c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C442DB75-7E40-4854-8CEA-2A3F3237E0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Assignment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 cont. #3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elper materi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https://git.ik.bme.hu/Parlab/burglar.g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r on para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~szebi/para/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urg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ver –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abyrinth serv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j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ent – example clien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spcBef>
                <a:spcPts val="3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sk to be sub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ted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hort description: pdf, or t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urc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9D091CC2-2415-43BC-9253-D9B9203173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Burglar – cops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ps are chasing a burglar on the street (in a labyrint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ps are communicating with each other or with the police centre on handy (mobile phon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moving actor (cop, robber) is a thread or a process that communicates with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sing is over when the robbers can not m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AD1488E8-D0FE-4FA8-B25D-997B114C09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Lab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y</a:t>
            </a: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rint server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erver runs on the local machine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it is responsible for displaying the labyrinth and the moving a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is listening to TCP port 15623 and executes simple comm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lients are running on the server pa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onnection is built up through the TCP tunn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CBBFCB75-A879-499D-AC87-03F1C2D997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Architect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4" name="Dátum helye 2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Élőláb helye 3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Dia számának helye 4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66674DAA-CD2B-458C-8743-26D6548FC7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églalap 5"/>
          <p:cNvSpPr/>
          <p:nvPr/>
        </p:nvSpPr>
        <p:spPr>
          <a:xfrm>
            <a:off x="3205080" y="2847960"/>
            <a:ext cx="2019240" cy="97164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Labyrinth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Ellipszis 6"/>
          <p:cNvSpPr/>
          <p:nvPr/>
        </p:nvSpPr>
        <p:spPr>
          <a:xfrm>
            <a:off x="1271520" y="2921040"/>
            <a:ext cx="1343160" cy="799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Burg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Ellipszis 8"/>
          <p:cNvSpPr/>
          <p:nvPr/>
        </p:nvSpPr>
        <p:spPr>
          <a:xfrm>
            <a:off x="6361200" y="194616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Ellipszis 9"/>
          <p:cNvSpPr/>
          <p:nvPr/>
        </p:nvSpPr>
        <p:spPr>
          <a:xfrm>
            <a:off x="6361200" y="260028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Ellipszis 10"/>
          <p:cNvSpPr/>
          <p:nvPr/>
        </p:nvSpPr>
        <p:spPr>
          <a:xfrm>
            <a:off x="6342120" y="456732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Ellipszis 11"/>
          <p:cNvSpPr/>
          <p:nvPr/>
        </p:nvSpPr>
        <p:spPr>
          <a:xfrm>
            <a:off x="6361200" y="325584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Ellipszis 12"/>
          <p:cNvSpPr/>
          <p:nvPr/>
        </p:nvSpPr>
        <p:spPr>
          <a:xfrm>
            <a:off x="6342120" y="391320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omboid 15"/>
          <p:cNvSpPr/>
          <p:nvPr/>
        </p:nvSpPr>
        <p:spPr>
          <a:xfrm>
            <a:off x="3338640" y="1865160"/>
            <a:ext cx="2019240" cy="981360"/>
          </a:xfrm>
          <a:prstGeom prst="parallelogram">
            <a:avLst>
              <a:gd name="adj" fmla="val 24996"/>
            </a:avLst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omboid 16"/>
          <p:cNvSpPr/>
          <p:nvPr/>
        </p:nvSpPr>
        <p:spPr>
          <a:xfrm>
            <a:off x="3519360" y="1973160"/>
            <a:ext cx="1657440" cy="739800"/>
          </a:xfrm>
          <a:prstGeom prst="parallelogram">
            <a:avLst>
              <a:gd name="adj" fmla="val 24997"/>
            </a:avLst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Szögletes összekötő 18"/>
          <p:cNvCxnSpPr/>
          <p:nvPr/>
        </p:nvCxnSpPr>
        <p:spPr>
          <a:xfrm flipH="1" rot="16200000">
            <a:off x="4290120" y="2166480"/>
            <a:ext cx="362520" cy="1436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27" name="Szögletes összekötő 20"/>
          <p:cNvCxnSpPr/>
          <p:nvPr/>
        </p:nvCxnSpPr>
        <p:spPr>
          <a:xfrm rot="5400000">
            <a:off x="4602960" y="2311560"/>
            <a:ext cx="342000" cy="167040"/>
          </a:xfrm>
          <a:prstGeom prst="bentConnector3">
            <a:avLst>
              <a:gd name="adj1" fmla="val 49947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28" name="Szögletes összekötő 22"/>
          <p:cNvCxnSpPr/>
          <p:nvPr/>
        </p:nvCxnSpPr>
        <p:spPr>
          <a:xfrm>
            <a:off x="4397400" y="2414160"/>
            <a:ext cx="294480" cy="144720"/>
          </a:xfrm>
          <a:prstGeom prst="bentConnector3">
            <a:avLst>
              <a:gd name="adj1" fmla="val 49938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29" name="Szögletes összekötő 25"/>
          <p:cNvCxnSpPr/>
          <p:nvPr/>
        </p:nvCxnSpPr>
        <p:spPr>
          <a:xfrm rot="5400000">
            <a:off x="4152240" y="2472840"/>
            <a:ext cx="300600" cy="1738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30" name="Szögletes összekötő 30"/>
          <p:cNvCxnSpPr/>
          <p:nvPr/>
        </p:nvCxnSpPr>
        <p:spPr>
          <a:xfrm flipV="1">
            <a:off x="4033800" y="2056680"/>
            <a:ext cx="362520" cy="3625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31" name="Szögletes összekötő 33"/>
          <p:cNvCxnSpPr/>
          <p:nvPr/>
        </p:nvCxnSpPr>
        <p:spPr>
          <a:xfrm flipH="1" rot="16200000">
            <a:off x="3786120" y="2165760"/>
            <a:ext cx="363960" cy="1436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</a:ln>
        </p:spPr>
      </p:cxnSp>
      <p:sp>
        <p:nvSpPr>
          <p:cNvPr id="132" name="Téglalap 36"/>
          <p:cNvSpPr/>
          <p:nvPr/>
        </p:nvSpPr>
        <p:spPr>
          <a:xfrm>
            <a:off x="4384800" y="2284560"/>
            <a:ext cx="152280" cy="96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églalap 37"/>
          <p:cNvSpPr/>
          <p:nvPr/>
        </p:nvSpPr>
        <p:spPr>
          <a:xfrm>
            <a:off x="3871800" y="2452680"/>
            <a:ext cx="152640" cy="9684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églalap 38"/>
          <p:cNvSpPr/>
          <p:nvPr/>
        </p:nvSpPr>
        <p:spPr>
          <a:xfrm>
            <a:off x="4227480" y="2101680"/>
            <a:ext cx="152280" cy="9684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églalap 40"/>
          <p:cNvSpPr/>
          <p:nvPr/>
        </p:nvSpPr>
        <p:spPr>
          <a:xfrm>
            <a:off x="4592520" y="2073240"/>
            <a:ext cx="152640" cy="9684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Egyenes összekötő 42"/>
          <p:cNvSpPr/>
          <p:nvPr/>
        </p:nvSpPr>
        <p:spPr>
          <a:xfrm>
            <a:off x="2614680" y="3321000"/>
            <a:ext cx="590400" cy="12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Egyenes összekötő 45"/>
          <p:cNvSpPr/>
          <p:nvPr/>
        </p:nvSpPr>
        <p:spPr>
          <a:xfrm flipH="1">
            <a:off x="5224320" y="2227320"/>
            <a:ext cx="1136880" cy="110628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Egyenes összekötő 47"/>
          <p:cNvSpPr/>
          <p:nvPr/>
        </p:nvSpPr>
        <p:spPr>
          <a:xfrm flipH="1" flipV="1">
            <a:off x="5224320" y="3333240"/>
            <a:ext cx="1136880" cy="2034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Egyenes összekötő 50"/>
          <p:cNvSpPr/>
          <p:nvPr/>
        </p:nvSpPr>
        <p:spPr>
          <a:xfrm flipV="1">
            <a:off x="5224320" y="2881440"/>
            <a:ext cx="1136880" cy="45216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Egyenes összekötő 52"/>
          <p:cNvSpPr/>
          <p:nvPr/>
        </p:nvSpPr>
        <p:spPr>
          <a:xfrm>
            <a:off x="5224320" y="3333600"/>
            <a:ext cx="1117800" cy="8604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Egyenes összekötő 54"/>
          <p:cNvSpPr/>
          <p:nvPr/>
        </p:nvSpPr>
        <p:spPr>
          <a:xfrm>
            <a:off x="5224320" y="3333600"/>
            <a:ext cx="1117800" cy="151452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ekerekített téglalapbuborék 56"/>
          <p:cNvSpPr/>
          <p:nvPr/>
        </p:nvSpPr>
        <p:spPr>
          <a:xfrm>
            <a:off x="374760" y="4848120"/>
            <a:ext cx="1342800" cy="519120"/>
          </a:xfrm>
          <a:prstGeom prst="wedgeRoundRectCallout">
            <a:avLst>
              <a:gd name="adj1" fmla="val 69462"/>
              <a:gd name="adj2" fmla="val -275810"/>
              <a:gd name="adj3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ekerekített téglalapbuborék 57"/>
          <p:cNvSpPr/>
          <p:nvPr/>
        </p:nvSpPr>
        <p:spPr>
          <a:xfrm>
            <a:off x="2681280" y="5235480"/>
            <a:ext cx="1987560" cy="824040"/>
          </a:xfrm>
          <a:prstGeom prst="wedgeRoundRectCallout">
            <a:avLst>
              <a:gd name="adj1" fmla="val 101921"/>
              <a:gd name="adj2" fmla="val -204921"/>
              <a:gd name="adj3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TCP/IP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Jobb oldali kapcsos zárójel 58"/>
          <p:cNvSpPr/>
          <p:nvPr/>
        </p:nvSpPr>
        <p:spPr>
          <a:xfrm rot="5400000">
            <a:off x="6791400" y="4367880"/>
            <a:ext cx="478080" cy="2476440"/>
          </a:xfrm>
          <a:custGeom>
            <a:avLst/>
            <a:gdLst>
              <a:gd name="textAreaLeft" fmla="*/ 0 w 478080"/>
              <a:gd name="textAreaRight" fmla="*/ 172440 w 478080"/>
              <a:gd name="textAreaTop" fmla="*/ 12240 h 2476440"/>
              <a:gd name="textAreaBottom" fmla="*/ 2464200 h 24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4"/>
                  <a:pt x="10800" y="347"/>
                </a:cubicBezTo>
                <a:lnTo>
                  <a:pt x="10800" y="10453"/>
                </a:lnTo>
                <a:cubicBezTo>
                  <a:pt x="10800" y="10627"/>
                  <a:pt x="16200" y="10800"/>
                  <a:pt x="21600" y="10800"/>
                </a:cubicBezTo>
                <a:cubicBezTo>
                  <a:pt x="16200" y="10800"/>
                  <a:pt x="10800" y="10974"/>
                  <a:pt x="10800" y="11147"/>
                </a:cubicBezTo>
                <a:lnTo>
                  <a:pt x="10800" y="21253"/>
                </a:lnTo>
                <a:cubicBezTo>
                  <a:pt x="10800" y="2142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zövegdoboz 59"/>
          <p:cNvSpPr/>
          <p:nvPr/>
        </p:nvSpPr>
        <p:spPr>
          <a:xfrm>
            <a:off x="6045120" y="574056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PI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Communication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341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mple text messages in both directions ending with endline (’\n’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000"/>
                </a:solidFill>
                <a:latin typeface="Times New Roman"/>
              </a:rPr>
              <a:t>Initialization</a:t>
            </a: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: Player </a:t>
            </a:r>
            <a:r>
              <a:rPr b="0" lang="hu-HU" sz="3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D24F66D2-3BF4-4964-B27C-DCE9A1F758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74720" y="3084480"/>
          <a:ext cx="7562880" cy="3127320"/>
        </p:xfrm>
        <a:graphic>
          <a:graphicData uri="http://schemas.openxmlformats.org/drawingml/2006/table">
            <a:tbl>
              <a:tblPr/>
              <a:tblGrid>
                <a:gridCol w="1549440"/>
                <a:gridCol w="1542960"/>
                <a:gridCol w="4470480"/>
              </a:tblGrid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md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glar step 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glar initial 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</a:tr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 step 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 initial 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Communication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/2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15704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Other c</a:t>
            </a:r>
            <a:r>
              <a:rPr b="0" lang="en-GB" sz="3600" spc="-1" strike="noStrike">
                <a:solidFill>
                  <a:srgbClr val="ffc000"/>
                </a:solidFill>
                <a:latin typeface="Times New Roman"/>
              </a:rPr>
              <a:t>ommand</a:t>
            </a: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s: Player </a:t>
            </a:r>
            <a:r>
              <a:rPr b="0" lang="hu-HU" sz="3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Dátum helye 3"/>
          <p:cNvSpPr/>
          <p:nvPr/>
        </p:nvSpPr>
        <p:spPr>
          <a:xfrm>
            <a:off x="6019920" y="641664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2A9B9340-D09D-49E0-8844-0BAC45AA62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96960" y="1828800"/>
          <a:ext cx="7672320" cy="1251000"/>
        </p:xfrm>
        <a:graphic>
          <a:graphicData uri="http://schemas.openxmlformats.org/drawingml/2006/table">
            <a:tbl>
              <a:tblPr/>
              <a:tblGrid>
                <a:gridCol w="1751040"/>
                <a:gridCol w="5921280"/>
              </a:tblGrid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md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D,L,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p (up, down, left, righ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95160" y="3143160"/>
          <a:ext cx="7672680" cy="3248280"/>
        </p:xfrm>
        <a:graphic>
          <a:graphicData uri="http://schemas.openxmlformats.org/drawingml/2006/table">
            <a:tbl>
              <a:tblPr/>
              <a:tblGrid>
                <a:gridCol w="1738440"/>
                <a:gridCol w="5934240"/>
              </a:tblGrid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swer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pping is not pos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 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cessful ste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ew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s the view what is viewable path from the ne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ositio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Communication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/3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21752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view:= U#{#} D#{#} L#{#} R#{#}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Dátum helye 3"/>
          <p:cNvSpPr/>
          <p:nvPr/>
        </p:nvSpPr>
        <p:spPr>
          <a:xfrm>
            <a:off x="6019920" y="641664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B1ABF17F-A6FF-43E1-AA0D-D51262AB60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22360" y="2046240"/>
            <a:ext cx="8064360" cy="3114720"/>
          </a:xfrm>
          <a:prstGeom prst="rect">
            <a:avLst/>
          </a:prstGeom>
          <a:ln w="0">
            <a:noFill/>
          </a:ln>
        </p:spPr>
      </p:pic>
      <p:sp>
        <p:nvSpPr>
          <p:cNvPr id="165" name="Téglalap 1"/>
          <p:cNvSpPr/>
          <p:nvPr/>
        </p:nvSpPr>
        <p:spPr>
          <a:xfrm>
            <a:off x="960480" y="2571840"/>
            <a:ext cx="1371600" cy="191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p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rglar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Helper class: player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2516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Player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enum {up, down, left, right}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irectio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enum {burglar, cop} player_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(char*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, int port, player_t cop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*move(direction d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getx(){ return x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gety(){ return y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_t gettyp() { return me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x(int x) { this-&gt;x = x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y(int y) { this-&gt;y = y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E94217F8-99F0-46C9-A300-5FF71C7F61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Multiuser environmen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2" name="Dátum helye 2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Élőláb helye 3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Dia számának helye 4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ED8D7137-7F48-47CA-A335-38DFD47213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Csoportba foglalás 19"/>
          <p:cNvGrpSpPr/>
          <p:nvPr/>
        </p:nvGrpSpPr>
        <p:grpSpPr>
          <a:xfrm>
            <a:off x="1465200" y="1474920"/>
            <a:ext cx="4591080" cy="2789280"/>
            <a:chOff x="1465200" y="1474920"/>
            <a:chExt cx="4591080" cy="2789280"/>
          </a:xfrm>
        </p:grpSpPr>
        <p:sp>
          <p:nvSpPr>
            <p:cNvPr id="176" name="Lekerekített téglalap 17"/>
            <p:cNvSpPr/>
            <p:nvPr/>
          </p:nvSpPr>
          <p:spPr>
            <a:xfrm>
              <a:off x="1465200" y="1474920"/>
              <a:ext cx="4591080" cy="2789280"/>
            </a:xfrm>
            <a:prstGeom prst="roundRect">
              <a:avLst>
                <a:gd name="adj" fmla="val 16667"/>
              </a:avLst>
            </a:prstGeom>
            <a:solidFill>
              <a:srgbClr val="7f4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SER #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Csoportba foglalás 7"/>
            <p:cNvGrpSpPr/>
            <p:nvPr/>
          </p:nvGrpSpPr>
          <p:grpSpPr>
            <a:xfrm>
              <a:off x="1913040" y="1715760"/>
              <a:ext cx="3891240" cy="2361600"/>
              <a:chOff x="1913040" y="1715760"/>
              <a:chExt cx="3891240" cy="2361600"/>
            </a:xfrm>
          </p:grpSpPr>
          <p:sp>
            <p:nvSpPr>
              <p:cNvPr id="178" name="Téglalap 5"/>
              <p:cNvSpPr/>
              <p:nvPr/>
            </p:nvSpPr>
            <p:spPr>
              <a:xfrm>
                <a:off x="3064320" y="2427480"/>
                <a:ext cx="1153800" cy="7030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imes New Roman"/>
                  </a:rPr>
                  <a:t>Labyrinth 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Ellipszis 6"/>
              <p:cNvSpPr/>
              <p:nvPr/>
            </p:nvSpPr>
            <p:spPr>
              <a:xfrm>
                <a:off x="1913040" y="2480040"/>
                <a:ext cx="961200" cy="57888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Burg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Ellipszis 8"/>
              <p:cNvSpPr/>
              <p:nvPr/>
            </p:nvSpPr>
            <p:spPr>
              <a:xfrm>
                <a:off x="4868280" y="1774440"/>
                <a:ext cx="93600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Ellipszis 9"/>
              <p:cNvSpPr/>
              <p:nvPr/>
            </p:nvSpPr>
            <p:spPr>
              <a:xfrm>
                <a:off x="4868280" y="224784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Ellipszis 10"/>
              <p:cNvSpPr/>
              <p:nvPr/>
            </p:nvSpPr>
            <p:spPr>
              <a:xfrm>
                <a:off x="4857480" y="367092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Ellipszis 11"/>
              <p:cNvSpPr/>
              <p:nvPr/>
            </p:nvSpPr>
            <p:spPr>
              <a:xfrm>
                <a:off x="4868280" y="272268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Ellipszis 12"/>
              <p:cNvSpPr/>
              <p:nvPr/>
            </p:nvSpPr>
            <p:spPr>
              <a:xfrm>
                <a:off x="4857480" y="319752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omboid 15"/>
              <p:cNvSpPr/>
              <p:nvPr/>
            </p:nvSpPr>
            <p:spPr>
              <a:xfrm>
                <a:off x="3139920" y="1715760"/>
                <a:ext cx="1154160" cy="709560"/>
              </a:xfrm>
              <a:prstGeom prst="parallelogram">
                <a:avLst>
                  <a:gd name="adj" fmla="val 1974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omboid 16"/>
              <p:cNvSpPr/>
              <p:nvPr/>
            </p:nvSpPr>
            <p:spPr>
              <a:xfrm>
                <a:off x="3243960" y="1794240"/>
                <a:ext cx="946800" cy="535320"/>
              </a:xfrm>
              <a:prstGeom prst="parallelogram">
                <a:avLst>
                  <a:gd name="adj" fmla="val 19734"/>
                </a:avLst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7" name="Szögletes összekötő 18"/>
              <p:cNvCxnSpPr/>
              <p:nvPr/>
            </p:nvCxnSpPr>
            <p:spPr>
              <a:xfrm flipH="1" rot="16200000">
                <a:off x="3657960" y="1943640"/>
                <a:ext cx="262080" cy="82080"/>
              </a:xfrm>
              <a:prstGeom prst="bentConnector3">
                <a:avLst>
                  <a:gd name="adj1" fmla="val 49931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88" name="Szögletes összekötő 20"/>
              <p:cNvCxnSpPr/>
              <p:nvPr/>
            </p:nvCxnSpPr>
            <p:spPr>
              <a:xfrm rot="5400000">
                <a:off x="3836520" y="2051280"/>
                <a:ext cx="248400" cy="95400"/>
              </a:xfrm>
              <a:prstGeom prst="bentConnector3">
                <a:avLst>
                  <a:gd name="adj1" fmla="val 4992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89" name="Szögletes összekötő 22"/>
              <p:cNvCxnSpPr/>
              <p:nvPr/>
            </p:nvCxnSpPr>
            <p:spPr>
              <a:xfrm>
                <a:off x="3745800" y="2112480"/>
                <a:ext cx="168480" cy="105480"/>
              </a:xfrm>
              <a:prstGeom prst="bentConnector3">
                <a:avLst>
                  <a:gd name="adj1" fmla="val 49892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90" name="Szögletes összekötő 25"/>
              <p:cNvCxnSpPr/>
              <p:nvPr/>
            </p:nvCxnSpPr>
            <p:spPr>
              <a:xfrm rot="5400000">
                <a:off x="3582000" y="2168640"/>
                <a:ext cx="218160" cy="99720"/>
              </a:xfrm>
              <a:prstGeom prst="bentConnector3">
                <a:avLst>
                  <a:gd name="adj1" fmla="val 4991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91" name="Szögletes összekötő 30"/>
              <p:cNvCxnSpPr/>
              <p:nvPr/>
            </p:nvCxnSpPr>
            <p:spPr>
              <a:xfrm flipV="1">
                <a:off x="3538080" y="1854360"/>
                <a:ext cx="207360" cy="262080"/>
              </a:xfrm>
              <a:prstGeom prst="bentConnector3">
                <a:avLst>
                  <a:gd name="adj1" fmla="val 49913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92" name="Szögletes összekötő 33"/>
              <p:cNvCxnSpPr/>
              <p:nvPr/>
            </p:nvCxnSpPr>
            <p:spPr>
              <a:xfrm flipH="1" rot="16200000">
                <a:off x="3369240" y="1944000"/>
                <a:ext cx="263160" cy="8244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sp>
            <p:nvSpPr>
              <p:cNvPr id="193" name="Téglalap 36"/>
              <p:cNvSpPr/>
              <p:nvPr/>
            </p:nvSpPr>
            <p:spPr>
              <a:xfrm>
                <a:off x="3738240" y="2019240"/>
                <a:ext cx="87120" cy="69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Téglalap 37"/>
              <p:cNvSpPr/>
              <p:nvPr/>
            </p:nvSpPr>
            <p:spPr>
              <a:xfrm>
                <a:off x="3445560" y="214092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Téglalap 38"/>
              <p:cNvSpPr/>
              <p:nvPr/>
            </p:nvSpPr>
            <p:spPr>
              <a:xfrm>
                <a:off x="3649320" y="188712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églalap 40"/>
              <p:cNvSpPr/>
              <p:nvPr/>
            </p:nvSpPr>
            <p:spPr>
              <a:xfrm>
                <a:off x="3857760" y="186660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Egyenes összekötő 42"/>
              <p:cNvSpPr/>
              <p:nvPr/>
            </p:nvSpPr>
            <p:spPr>
              <a:xfrm>
                <a:off x="2874240" y="2769480"/>
                <a:ext cx="190080" cy="9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Egyenes összekötő 45"/>
              <p:cNvSpPr/>
              <p:nvPr/>
            </p:nvSpPr>
            <p:spPr>
              <a:xfrm flipH="1">
                <a:off x="4218120" y="1977840"/>
                <a:ext cx="649800" cy="80064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Egyenes összekötő 47"/>
              <p:cNvSpPr/>
              <p:nvPr/>
            </p:nvSpPr>
            <p:spPr>
              <a:xfrm flipH="1" flipV="1">
                <a:off x="4218120" y="2778840"/>
                <a:ext cx="649800" cy="1468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Egyenes összekötő 50"/>
              <p:cNvSpPr/>
              <p:nvPr/>
            </p:nvSpPr>
            <p:spPr>
              <a:xfrm flipV="1">
                <a:off x="4218480" y="2451240"/>
                <a:ext cx="649800" cy="32760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Egyenes összekötő 52"/>
              <p:cNvSpPr/>
              <p:nvPr/>
            </p:nvSpPr>
            <p:spPr>
              <a:xfrm>
                <a:off x="4218480" y="2778840"/>
                <a:ext cx="638640" cy="6217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Egyenes összekötő 54"/>
              <p:cNvSpPr/>
              <p:nvPr/>
            </p:nvSpPr>
            <p:spPr>
              <a:xfrm>
                <a:off x="4218480" y="2778840"/>
                <a:ext cx="638640" cy="10951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Csoportba foglalás 41"/>
          <p:cNvGrpSpPr/>
          <p:nvPr/>
        </p:nvGrpSpPr>
        <p:grpSpPr>
          <a:xfrm>
            <a:off x="1704960" y="2044800"/>
            <a:ext cx="4591080" cy="2790720"/>
            <a:chOff x="1704960" y="2044800"/>
            <a:chExt cx="4591080" cy="2790720"/>
          </a:xfrm>
        </p:grpSpPr>
        <p:sp>
          <p:nvSpPr>
            <p:cNvPr id="204" name="Lekerekített téglalap 43"/>
            <p:cNvSpPr/>
            <p:nvPr/>
          </p:nvSpPr>
          <p:spPr>
            <a:xfrm>
              <a:off x="1704960" y="2044800"/>
              <a:ext cx="4591080" cy="2790720"/>
            </a:xfrm>
            <a:prstGeom prst="roundRect">
              <a:avLst>
                <a:gd name="adj" fmla="val 16667"/>
              </a:avLst>
            </a:prstGeom>
            <a:solidFill>
              <a:srgbClr val="7f4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SER #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Csoportba foglalás 44"/>
            <p:cNvGrpSpPr/>
            <p:nvPr/>
          </p:nvGrpSpPr>
          <p:grpSpPr>
            <a:xfrm>
              <a:off x="2152800" y="2286000"/>
              <a:ext cx="3891240" cy="2363040"/>
              <a:chOff x="2152800" y="2286000"/>
              <a:chExt cx="3891240" cy="2363040"/>
            </a:xfrm>
          </p:grpSpPr>
          <p:sp>
            <p:nvSpPr>
              <p:cNvPr id="206" name="Téglalap 46"/>
              <p:cNvSpPr/>
              <p:nvPr/>
            </p:nvSpPr>
            <p:spPr>
              <a:xfrm>
                <a:off x="3304080" y="2998080"/>
                <a:ext cx="1153800" cy="7034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imes New Roman"/>
                  </a:rPr>
                  <a:t>Labyrinth 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Ellipszis 48"/>
              <p:cNvSpPr/>
              <p:nvPr/>
            </p:nvSpPr>
            <p:spPr>
              <a:xfrm>
                <a:off x="2152800" y="3050640"/>
                <a:ext cx="961200" cy="5792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Burg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Ellipszis 49"/>
              <p:cNvSpPr/>
              <p:nvPr/>
            </p:nvSpPr>
            <p:spPr>
              <a:xfrm>
                <a:off x="5108040" y="2345040"/>
                <a:ext cx="936000" cy="40680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Ellipszis 51"/>
              <p:cNvSpPr/>
              <p:nvPr/>
            </p:nvSpPr>
            <p:spPr>
              <a:xfrm>
                <a:off x="5108040" y="2818440"/>
                <a:ext cx="936000" cy="40680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Ellipszis 53"/>
              <p:cNvSpPr/>
              <p:nvPr/>
            </p:nvSpPr>
            <p:spPr>
              <a:xfrm>
                <a:off x="5097240" y="4242240"/>
                <a:ext cx="936000" cy="40680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Ellipszis 55"/>
              <p:cNvSpPr/>
              <p:nvPr/>
            </p:nvSpPr>
            <p:spPr>
              <a:xfrm>
                <a:off x="5108040" y="3293640"/>
                <a:ext cx="936000" cy="40680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Ellipszis 60"/>
              <p:cNvSpPr/>
              <p:nvPr/>
            </p:nvSpPr>
            <p:spPr>
              <a:xfrm>
                <a:off x="5097240" y="3768480"/>
                <a:ext cx="936000" cy="40680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omboid 61"/>
              <p:cNvSpPr/>
              <p:nvPr/>
            </p:nvSpPr>
            <p:spPr>
              <a:xfrm>
                <a:off x="3379680" y="2286000"/>
                <a:ext cx="1154160" cy="709560"/>
              </a:xfrm>
              <a:prstGeom prst="parallelogram">
                <a:avLst>
                  <a:gd name="adj" fmla="val 19737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Romboid 62"/>
              <p:cNvSpPr/>
              <p:nvPr/>
            </p:nvSpPr>
            <p:spPr>
              <a:xfrm>
                <a:off x="3483720" y="2364840"/>
                <a:ext cx="946800" cy="535680"/>
              </a:xfrm>
              <a:prstGeom prst="parallelogram">
                <a:avLst>
                  <a:gd name="adj" fmla="val 19720"/>
                </a:avLst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5" name="Szögletes összekötő 63"/>
              <p:cNvCxnSpPr/>
              <p:nvPr/>
            </p:nvCxnSpPr>
            <p:spPr>
              <a:xfrm flipH="1" rot="16200000">
                <a:off x="3897360" y="2514960"/>
                <a:ext cx="262800" cy="82080"/>
              </a:xfrm>
              <a:prstGeom prst="bentConnector3">
                <a:avLst>
                  <a:gd name="adj1" fmla="val 49931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16" name="Szögletes összekötő 64"/>
              <p:cNvCxnSpPr/>
              <p:nvPr/>
            </p:nvCxnSpPr>
            <p:spPr>
              <a:xfrm rot="5400000">
                <a:off x="4076280" y="2621880"/>
                <a:ext cx="248400" cy="95400"/>
              </a:xfrm>
              <a:prstGeom prst="bentConnector3">
                <a:avLst>
                  <a:gd name="adj1" fmla="val 4992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17" name="Szögletes összekötő 65"/>
              <p:cNvCxnSpPr/>
              <p:nvPr/>
            </p:nvCxnSpPr>
            <p:spPr>
              <a:xfrm>
                <a:off x="3985560" y="2683080"/>
                <a:ext cx="168480" cy="105480"/>
              </a:xfrm>
              <a:prstGeom prst="bentConnector3">
                <a:avLst>
                  <a:gd name="adj1" fmla="val 49892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18" name="Szögletes összekötő 66"/>
              <p:cNvCxnSpPr/>
              <p:nvPr/>
            </p:nvCxnSpPr>
            <p:spPr>
              <a:xfrm rot="5400000">
                <a:off x="3821760" y="2739240"/>
                <a:ext cx="218520" cy="9972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19" name="Szögletes összekötő 67"/>
              <p:cNvCxnSpPr/>
              <p:nvPr/>
            </p:nvCxnSpPr>
            <p:spPr>
              <a:xfrm flipV="1">
                <a:off x="3777840" y="2424600"/>
                <a:ext cx="207360" cy="262800"/>
              </a:xfrm>
              <a:prstGeom prst="bentConnector3">
                <a:avLst>
                  <a:gd name="adj1" fmla="val 49913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20" name="Szögletes összekötő 68"/>
              <p:cNvCxnSpPr/>
              <p:nvPr/>
            </p:nvCxnSpPr>
            <p:spPr>
              <a:xfrm flipH="1" rot="16200000">
                <a:off x="3609000" y="2514240"/>
                <a:ext cx="263160" cy="8244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sp>
            <p:nvSpPr>
              <p:cNvPr id="221" name="Téglalap 69"/>
              <p:cNvSpPr/>
              <p:nvPr/>
            </p:nvSpPr>
            <p:spPr>
              <a:xfrm>
                <a:off x="3978000" y="2589840"/>
                <a:ext cx="87120" cy="69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Téglalap 70"/>
              <p:cNvSpPr/>
              <p:nvPr/>
            </p:nvSpPr>
            <p:spPr>
              <a:xfrm>
                <a:off x="3685320" y="271152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Téglalap 71"/>
              <p:cNvSpPr/>
              <p:nvPr/>
            </p:nvSpPr>
            <p:spPr>
              <a:xfrm>
                <a:off x="3889080" y="245772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Téglalap 72"/>
              <p:cNvSpPr/>
              <p:nvPr/>
            </p:nvSpPr>
            <p:spPr>
              <a:xfrm>
                <a:off x="4097520" y="243684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Egyenes összekötő 73"/>
              <p:cNvSpPr/>
              <p:nvPr/>
            </p:nvSpPr>
            <p:spPr>
              <a:xfrm>
                <a:off x="3114000" y="3340440"/>
                <a:ext cx="190080" cy="9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Egyenes összekötő 74"/>
              <p:cNvSpPr/>
              <p:nvPr/>
            </p:nvSpPr>
            <p:spPr>
              <a:xfrm flipH="1">
                <a:off x="4457880" y="2548440"/>
                <a:ext cx="649800" cy="801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Egyenes összekötő 75"/>
              <p:cNvSpPr/>
              <p:nvPr/>
            </p:nvSpPr>
            <p:spPr>
              <a:xfrm flipH="1" flipV="1">
                <a:off x="4457880" y="3349800"/>
                <a:ext cx="649800" cy="1468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Egyenes összekötő 76"/>
              <p:cNvSpPr/>
              <p:nvPr/>
            </p:nvSpPr>
            <p:spPr>
              <a:xfrm flipV="1">
                <a:off x="4458240" y="3022200"/>
                <a:ext cx="649800" cy="32760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Egyenes összekötő 77"/>
              <p:cNvSpPr/>
              <p:nvPr/>
            </p:nvSpPr>
            <p:spPr>
              <a:xfrm>
                <a:off x="4458240" y="3349800"/>
                <a:ext cx="638640" cy="6220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Egyenes összekötő 78"/>
              <p:cNvSpPr/>
              <p:nvPr/>
            </p:nvSpPr>
            <p:spPr>
              <a:xfrm>
                <a:off x="4458240" y="3349800"/>
                <a:ext cx="638640" cy="109584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1" name="Csoportba foglalás 79"/>
          <p:cNvGrpSpPr/>
          <p:nvPr/>
        </p:nvGrpSpPr>
        <p:grpSpPr>
          <a:xfrm>
            <a:off x="1968480" y="2660760"/>
            <a:ext cx="4591080" cy="2789280"/>
            <a:chOff x="1968480" y="2660760"/>
            <a:chExt cx="4591080" cy="2789280"/>
          </a:xfrm>
        </p:grpSpPr>
        <p:sp>
          <p:nvSpPr>
            <p:cNvPr id="232" name="Lekerekített téglalap 80"/>
            <p:cNvSpPr/>
            <p:nvPr/>
          </p:nvSpPr>
          <p:spPr>
            <a:xfrm>
              <a:off x="1968480" y="2660760"/>
              <a:ext cx="4591080" cy="2789280"/>
            </a:xfrm>
            <a:prstGeom prst="roundRect">
              <a:avLst>
                <a:gd name="adj" fmla="val 16667"/>
              </a:avLst>
            </a:prstGeom>
            <a:solidFill>
              <a:srgbClr val="7f4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SER #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Csoportba foglalás 81"/>
            <p:cNvGrpSpPr/>
            <p:nvPr/>
          </p:nvGrpSpPr>
          <p:grpSpPr>
            <a:xfrm>
              <a:off x="2416320" y="2901600"/>
              <a:ext cx="3891240" cy="2361600"/>
              <a:chOff x="2416320" y="2901600"/>
              <a:chExt cx="3891240" cy="2361600"/>
            </a:xfrm>
          </p:grpSpPr>
          <p:sp>
            <p:nvSpPr>
              <p:cNvPr id="234" name="Téglalap 82"/>
              <p:cNvSpPr/>
              <p:nvPr/>
            </p:nvSpPr>
            <p:spPr>
              <a:xfrm>
                <a:off x="3567600" y="3613320"/>
                <a:ext cx="1153800" cy="7030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imes New Roman"/>
                  </a:rPr>
                  <a:t>Labyrinth 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Ellipszis 83"/>
              <p:cNvSpPr/>
              <p:nvPr/>
            </p:nvSpPr>
            <p:spPr>
              <a:xfrm>
                <a:off x="2416320" y="3665880"/>
                <a:ext cx="961200" cy="57888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Burg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Ellipszis 84"/>
              <p:cNvSpPr/>
              <p:nvPr/>
            </p:nvSpPr>
            <p:spPr>
              <a:xfrm>
                <a:off x="5371560" y="2960280"/>
                <a:ext cx="93600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Ellipszis 85"/>
              <p:cNvSpPr/>
              <p:nvPr/>
            </p:nvSpPr>
            <p:spPr>
              <a:xfrm>
                <a:off x="5371560" y="343368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Ellipszis 86"/>
              <p:cNvSpPr/>
              <p:nvPr/>
            </p:nvSpPr>
            <p:spPr>
              <a:xfrm>
                <a:off x="5360760" y="485676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Ellipszis 87"/>
              <p:cNvSpPr/>
              <p:nvPr/>
            </p:nvSpPr>
            <p:spPr>
              <a:xfrm>
                <a:off x="5371560" y="390852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Ellipszis 88"/>
              <p:cNvSpPr/>
              <p:nvPr/>
            </p:nvSpPr>
            <p:spPr>
              <a:xfrm>
                <a:off x="5360760" y="438336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omboid 89"/>
              <p:cNvSpPr/>
              <p:nvPr/>
            </p:nvSpPr>
            <p:spPr>
              <a:xfrm>
                <a:off x="3643200" y="2901600"/>
                <a:ext cx="1154160" cy="709560"/>
              </a:xfrm>
              <a:prstGeom prst="parallelogram">
                <a:avLst>
                  <a:gd name="adj" fmla="val 1974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omboid 90"/>
              <p:cNvSpPr/>
              <p:nvPr/>
            </p:nvSpPr>
            <p:spPr>
              <a:xfrm>
                <a:off x="3747240" y="2980080"/>
                <a:ext cx="946800" cy="535320"/>
              </a:xfrm>
              <a:prstGeom prst="parallelogram">
                <a:avLst>
                  <a:gd name="adj" fmla="val 19734"/>
                </a:avLst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3" name="Szögletes összekötő 91"/>
              <p:cNvCxnSpPr/>
              <p:nvPr/>
            </p:nvCxnSpPr>
            <p:spPr>
              <a:xfrm flipH="1" rot="16200000">
                <a:off x="4161240" y="3129480"/>
                <a:ext cx="262080" cy="82080"/>
              </a:xfrm>
              <a:prstGeom prst="bentConnector3">
                <a:avLst>
                  <a:gd name="adj1" fmla="val 49931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4" name="Szögletes összekötő 92"/>
              <p:cNvCxnSpPr/>
              <p:nvPr/>
            </p:nvCxnSpPr>
            <p:spPr>
              <a:xfrm rot="5400000">
                <a:off x="4339800" y="3237120"/>
                <a:ext cx="248400" cy="95400"/>
              </a:xfrm>
              <a:prstGeom prst="bentConnector3">
                <a:avLst>
                  <a:gd name="adj1" fmla="val 4992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5" name="Szögletes összekötő 93"/>
              <p:cNvCxnSpPr/>
              <p:nvPr/>
            </p:nvCxnSpPr>
            <p:spPr>
              <a:xfrm>
                <a:off x="4249080" y="3298320"/>
                <a:ext cx="168480" cy="105480"/>
              </a:xfrm>
              <a:prstGeom prst="bentConnector3">
                <a:avLst>
                  <a:gd name="adj1" fmla="val 49892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6" name="Szögletes összekötő 94"/>
              <p:cNvCxnSpPr/>
              <p:nvPr/>
            </p:nvCxnSpPr>
            <p:spPr>
              <a:xfrm rot="5400000">
                <a:off x="4085280" y="3354480"/>
                <a:ext cx="218160" cy="99720"/>
              </a:xfrm>
              <a:prstGeom prst="bentConnector3">
                <a:avLst>
                  <a:gd name="adj1" fmla="val 4991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7" name="Szögletes összekötő 95"/>
              <p:cNvCxnSpPr/>
              <p:nvPr/>
            </p:nvCxnSpPr>
            <p:spPr>
              <a:xfrm flipV="1">
                <a:off x="4041360" y="3040200"/>
                <a:ext cx="207360" cy="262080"/>
              </a:xfrm>
              <a:prstGeom prst="bentConnector3">
                <a:avLst>
                  <a:gd name="adj1" fmla="val 49913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8" name="Szögletes összekötő 96"/>
              <p:cNvCxnSpPr/>
              <p:nvPr/>
            </p:nvCxnSpPr>
            <p:spPr>
              <a:xfrm flipH="1" rot="16200000">
                <a:off x="3872520" y="3129840"/>
                <a:ext cx="263160" cy="8244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sp>
            <p:nvSpPr>
              <p:cNvPr id="249" name="Téglalap 97"/>
              <p:cNvSpPr/>
              <p:nvPr/>
            </p:nvSpPr>
            <p:spPr>
              <a:xfrm>
                <a:off x="4241520" y="3205080"/>
                <a:ext cx="87120" cy="69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Téglalap 98"/>
              <p:cNvSpPr/>
              <p:nvPr/>
            </p:nvSpPr>
            <p:spPr>
              <a:xfrm>
                <a:off x="3948840" y="332676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Téglalap 99"/>
              <p:cNvSpPr/>
              <p:nvPr/>
            </p:nvSpPr>
            <p:spPr>
              <a:xfrm>
                <a:off x="4152600" y="307296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Téglalap 100"/>
              <p:cNvSpPr/>
              <p:nvPr/>
            </p:nvSpPr>
            <p:spPr>
              <a:xfrm>
                <a:off x="4361040" y="305244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Egyenes összekötő 101"/>
              <p:cNvSpPr/>
              <p:nvPr/>
            </p:nvSpPr>
            <p:spPr>
              <a:xfrm>
                <a:off x="3377520" y="3955320"/>
                <a:ext cx="190080" cy="9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Egyenes összekötő 102"/>
              <p:cNvSpPr/>
              <p:nvPr/>
            </p:nvSpPr>
            <p:spPr>
              <a:xfrm flipH="1">
                <a:off x="4721400" y="3163680"/>
                <a:ext cx="649800" cy="80064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Egyenes összekötő 103"/>
              <p:cNvSpPr/>
              <p:nvPr/>
            </p:nvSpPr>
            <p:spPr>
              <a:xfrm flipH="1" flipV="1">
                <a:off x="4721400" y="3964680"/>
                <a:ext cx="649800" cy="1468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Egyenes összekötő 104"/>
              <p:cNvSpPr/>
              <p:nvPr/>
            </p:nvSpPr>
            <p:spPr>
              <a:xfrm flipV="1">
                <a:off x="4721760" y="3637080"/>
                <a:ext cx="649800" cy="32760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Egyenes összekötő 105"/>
              <p:cNvSpPr/>
              <p:nvPr/>
            </p:nvSpPr>
            <p:spPr>
              <a:xfrm>
                <a:off x="4721760" y="3964680"/>
                <a:ext cx="638640" cy="6217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Egyenes összekötő 106"/>
              <p:cNvSpPr/>
              <p:nvPr/>
            </p:nvSpPr>
            <p:spPr>
              <a:xfrm>
                <a:off x="4721760" y="3964680"/>
                <a:ext cx="638640" cy="10951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Csoportba foglalás 107"/>
          <p:cNvGrpSpPr/>
          <p:nvPr/>
        </p:nvGrpSpPr>
        <p:grpSpPr>
          <a:xfrm>
            <a:off x="2255760" y="3252960"/>
            <a:ext cx="4589640" cy="2788920"/>
            <a:chOff x="2255760" y="3252960"/>
            <a:chExt cx="4589640" cy="2788920"/>
          </a:xfrm>
        </p:grpSpPr>
        <p:sp>
          <p:nvSpPr>
            <p:cNvPr id="260" name="Lekerekített téglalap 108"/>
            <p:cNvSpPr/>
            <p:nvPr/>
          </p:nvSpPr>
          <p:spPr>
            <a:xfrm>
              <a:off x="2255760" y="3252960"/>
              <a:ext cx="4589640" cy="2788920"/>
            </a:xfrm>
            <a:prstGeom prst="roundRect">
              <a:avLst>
                <a:gd name="adj" fmla="val 16667"/>
              </a:avLst>
            </a:prstGeom>
            <a:solidFill>
              <a:srgbClr val="7f4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SER #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Csoportba foglalás 109"/>
            <p:cNvGrpSpPr/>
            <p:nvPr/>
          </p:nvGrpSpPr>
          <p:grpSpPr>
            <a:xfrm>
              <a:off x="2703240" y="3493800"/>
              <a:ext cx="3890160" cy="2361600"/>
              <a:chOff x="2703240" y="3493800"/>
              <a:chExt cx="3890160" cy="2361600"/>
            </a:xfrm>
          </p:grpSpPr>
          <p:sp>
            <p:nvSpPr>
              <p:cNvPr id="262" name="Téglalap 110"/>
              <p:cNvSpPr/>
              <p:nvPr/>
            </p:nvSpPr>
            <p:spPr>
              <a:xfrm>
                <a:off x="3854520" y="4205520"/>
                <a:ext cx="1153440" cy="7030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imes New Roman"/>
                  </a:rPr>
                  <a:t>Labyrinth 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Ellipszis 111"/>
              <p:cNvSpPr/>
              <p:nvPr/>
            </p:nvSpPr>
            <p:spPr>
              <a:xfrm>
                <a:off x="2703240" y="4258080"/>
                <a:ext cx="960840" cy="5788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Burg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Ellipszis 112"/>
              <p:cNvSpPr/>
              <p:nvPr/>
            </p:nvSpPr>
            <p:spPr>
              <a:xfrm>
                <a:off x="5657760" y="355248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Ellipszis 113"/>
              <p:cNvSpPr/>
              <p:nvPr/>
            </p:nvSpPr>
            <p:spPr>
              <a:xfrm>
                <a:off x="5657760" y="402588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Ellipszis 114"/>
              <p:cNvSpPr/>
              <p:nvPr/>
            </p:nvSpPr>
            <p:spPr>
              <a:xfrm>
                <a:off x="5646600" y="544896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Ellipszis 115"/>
              <p:cNvSpPr/>
              <p:nvPr/>
            </p:nvSpPr>
            <p:spPr>
              <a:xfrm>
                <a:off x="5657760" y="450072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Ellipszis 116"/>
              <p:cNvSpPr/>
              <p:nvPr/>
            </p:nvSpPr>
            <p:spPr>
              <a:xfrm>
                <a:off x="5646600" y="497556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omboid 117"/>
              <p:cNvSpPr/>
              <p:nvPr/>
            </p:nvSpPr>
            <p:spPr>
              <a:xfrm>
                <a:off x="3930480" y="3493800"/>
                <a:ext cx="1152720" cy="709560"/>
              </a:xfrm>
              <a:prstGeom prst="parallelogram">
                <a:avLst>
                  <a:gd name="adj" fmla="val 19743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omboid 118"/>
              <p:cNvSpPr/>
              <p:nvPr/>
            </p:nvSpPr>
            <p:spPr>
              <a:xfrm>
                <a:off x="4033800" y="3572280"/>
                <a:ext cx="946800" cy="535320"/>
              </a:xfrm>
              <a:prstGeom prst="parallelogram">
                <a:avLst>
                  <a:gd name="adj" fmla="val 19734"/>
                </a:avLst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71" name="Szögletes összekötő 119"/>
              <p:cNvCxnSpPr/>
              <p:nvPr/>
            </p:nvCxnSpPr>
            <p:spPr>
              <a:xfrm flipH="1" rot="16200000">
                <a:off x="4447800" y="3721680"/>
                <a:ext cx="262080" cy="82080"/>
              </a:xfrm>
              <a:prstGeom prst="bentConnector3">
                <a:avLst>
                  <a:gd name="adj1" fmla="val 49931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2" name="Szögletes összekötő 120"/>
              <p:cNvCxnSpPr/>
              <p:nvPr/>
            </p:nvCxnSpPr>
            <p:spPr>
              <a:xfrm rot="5400000">
                <a:off x="4626000" y="3829320"/>
                <a:ext cx="248400" cy="95400"/>
              </a:xfrm>
              <a:prstGeom prst="bentConnector3">
                <a:avLst>
                  <a:gd name="adj1" fmla="val 4992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3" name="Szögletes összekötő 121"/>
              <p:cNvCxnSpPr/>
              <p:nvPr/>
            </p:nvCxnSpPr>
            <p:spPr>
              <a:xfrm>
                <a:off x="4535280" y="3890520"/>
                <a:ext cx="168480" cy="105480"/>
              </a:xfrm>
              <a:prstGeom prst="bentConnector3">
                <a:avLst>
                  <a:gd name="adj1" fmla="val 49892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4" name="Szögletes összekötő 122"/>
              <p:cNvCxnSpPr/>
              <p:nvPr/>
            </p:nvCxnSpPr>
            <p:spPr>
              <a:xfrm rot="5400000">
                <a:off x="4371840" y="3946680"/>
                <a:ext cx="218160" cy="99720"/>
              </a:xfrm>
              <a:prstGeom prst="bentConnector3">
                <a:avLst>
                  <a:gd name="adj1" fmla="val 4991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5" name="Szögletes összekötő 123"/>
              <p:cNvCxnSpPr/>
              <p:nvPr/>
            </p:nvCxnSpPr>
            <p:spPr>
              <a:xfrm flipV="1">
                <a:off x="4327560" y="3632400"/>
                <a:ext cx="207360" cy="262080"/>
              </a:xfrm>
              <a:prstGeom prst="bentConnector3">
                <a:avLst>
                  <a:gd name="adj1" fmla="val 49913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6" name="Szögletes összekötő 124"/>
              <p:cNvCxnSpPr/>
              <p:nvPr/>
            </p:nvCxnSpPr>
            <p:spPr>
              <a:xfrm flipH="1" rot="16200000">
                <a:off x="4159800" y="3722040"/>
                <a:ext cx="263160" cy="8208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sp>
            <p:nvSpPr>
              <p:cNvPr id="277" name="Téglalap 125"/>
              <p:cNvSpPr/>
              <p:nvPr/>
            </p:nvSpPr>
            <p:spPr>
              <a:xfrm>
                <a:off x="4528080" y="3797280"/>
                <a:ext cx="87120" cy="69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Téglalap 126"/>
              <p:cNvSpPr/>
              <p:nvPr/>
            </p:nvSpPr>
            <p:spPr>
              <a:xfrm>
                <a:off x="4235400" y="391896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églalap 127"/>
              <p:cNvSpPr/>
              <p:nvPr/>
            </p:nvSpPr>
            <p:spPr>
              <a:xfrm>
                <a:off x="4438800" y="366516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Téglalap 128"/>
              <p:cNvSpPr/>
              <p:nvPr/>
            </p:nvSpPr>
            <p:spPr>
              <a:xfrm>
                <a:off x="4647600" y="364464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Egyenes összekötő 129"/>
              <p:cNvSpPr/>
              <p:nvPr/>
            </p:nvSpPr>
            <p:spPr>
              <a:xfrm>
                <a:off x="3664080" y="4547520"/>
                <a:ext cx="190080" cy="9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Egyenes összekötő 130"/>
              <p:cNvSpPr/>
              <p:nvPr/>
            </p:nvSpPr>
            <p:spPr>
              <a:xfrm flipH="1">
                <a:off x="5007960" y="3755880"/>
                <a:ext cx="649440" cy="80064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Egyenes összekötő 131"/>
              <p:cNvSpPr/>
              <p:nvPr/>
            </p:nvSpPr>
            <p:spPr>
              <a:xfrm flipH="1" flipV="1">
                <a:off x="5007960" y="4556880"/>
                <a:ext cx="649440" cy="1468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Egyenes összekötő 132"/>
              <p:cNvSpPr/>
              <p:nvPr/>
            </p:nvSpPr>
            <p:spPr>
              <a:xfrm flipV="1">
                <a:off x="5007960" y="4229280"/>
                <a:ext cx="649440" cy="32760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Egyenes összekötő 133"/>
              <p:cNvSpPr/>
              <p:nvPr/>
            </p:nvSpPr>
            <p:spPr>
              <a:xfrm>
                <a:off x="5007960" y="4556880"/>
                <a:ext cx="638640" cy="6217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Egyenes összekötő 134"/>
              <p:cNvSpPr/>
              <p:nvPr/>
            </p:nvSpPr>
            <p:spPr>
              <a:xfrm>
                <a:off x="5007960" y="4556880"/>
                <a:ext cx="638640" cy="10951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09:36:30Z</dcterms:created>
  <dc:creator>szebi</dc:creator>
  <dc:description/>
  <dc:language>en-US</dc:language>
  <cp:lastModifiedBy>SzI</cp:lastModifiedBy>
  <cp:lastPrinted>2015-10-20T07:07:41Z</cp:lastPrinted>
  <dcterms:modified xsi:type="dcterms:W3CDTF">2019-05-05T22:13:32Z</dcterms:modified>
  <cp:revision>288</cp:revision>
  <dc:subject/>
  <dc:title>Nincs diací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iit.bme.hu/~szebi</vt:lpwstr>
  </property>
  <property fmtid="{D5CDD505-2E9C-101B-9397-08002B2CF9AE}" pid="9" name="LinkColor">
    <vt:r8>16711782</vt:r8>
  </property>
  <property fmtid="{D5CDD505-2E9C-101B-9397-08002B2CF9AE}" pid="10" name="MailAddress">
    <vt:lpwstr>szebi@iit.bme.h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U\szebi\slides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